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01B-B954-41FE-9BFB-6A79666D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EA5-EC6E-4299-8E08-004D5258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0F2-0C61-4C75-9F7C-80EA1D35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19D-6A93-4F91-A3A3-C0FA1432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02F-AC31-43DA-B349-A36B4C9F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9D2-CDFD-42E4-9AD3-52D739DF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7AB-E1DA-4DF7-BDF4-5EEFB169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01E-131C-40AA-8E50-02F8EA98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F2C-D808-41AC-93CD-4BCC3669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FE5-0FC1-498A-B7CB-4855C79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081-CDBC-43E6-B2FF-15AA2B8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26E-A5FC-4282-B9C9-BD709CDC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CB65-544F-4897-9836-E827D761B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often like to write about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begin writ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your 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se painting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of these paintings if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use it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tor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898560"/>
            <a:ext cx="4267440" cy="258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05520" y="914400"/>
            <a:ext cx="3352680" cy="256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6720" y="228600"/>
            <a:ext cx="75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feel when you look at these 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3429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tive nar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of these images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could you beg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paintings would you choose as a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 you add to the paint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your story? (For example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267440" cy="258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05520" y="457200"/>
            <a:ext cx="335268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276720"/>
            <a:ext cx="2209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F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Herb Jackson, American, born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acrylic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8” x 60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3276720"/>
            <a:ext cx="23623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 White Clouds, Mooselookmegunti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John Beerma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, Born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30” x 5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640" y="533412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2971800" cy="1797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2362320" cy="1806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438280" cy="181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324480" y="3200400"/>
            <a:ext cx="2438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Opid, Fra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Anthony Thi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1.25 “ x 15.25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S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descriptive language, imaginative narrative, story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:  weather, climate,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color, texture, space, light, shape, line, art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054320" cy="245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37212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8360" y="4343400"/>
            <a:ext cx="846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(show) an outdo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without people, buildings, or o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c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say landscapes make them feel calm, relax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eace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7498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4648320" cy="2811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67080" y="380880"/>
            <a:ext cx="3886200" cy="297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3808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inting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just about the outdoors are call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ndscap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6680" y="3962520"/>
            <a:ext cx="288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442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3640" y="4952880"/>
            <a:ext cx="845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story, a painting may hav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tell the main id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tle would you give this paint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you chose that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191280" cy="473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6520" y="533412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nother artist’s painting of the s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tle would you choose for this paint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your title is a good one for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886200" cy="2351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312444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0840" y="228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compare and contrast these two pain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4480" y="3657600"/>
            <a:ext cx="47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in each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800600" cy="290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304920"/>
            <a:ext cx="69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seen a sky that looked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886200"/>
            <a:ext cx="866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t be when the sky looks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lues that tell the time of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like?  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em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, summer, spring or f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 Why do think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267080" cy="326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7160" y="22860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the sky look like this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26708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the artist has done in this painting to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viewer to pay att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ke you think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 artist chose to paint the sky this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1:47:15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